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ACA-13AF-43D0-B2AA-A16CBCB5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D2A-690D-4A02-968C-1FE8DC87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B06-2C45-40ED-BDA5-8E15CE1B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3D0-94E5-4A98-8650-7D4D3CA5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203-7AF7-4FC7-9D4C-2AF2EF1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84A-F9EA-41C1-8EEF-6CE01C64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118-D5FC-4D9F-A865-49C904A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75E-2D8B-4BA0-B95E-37C64125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B4E-EC1B-4CFE-BB7B-D7920356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A7-5C71-4D0D-976C-2E6710F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A03-34EC-4C8B-815E-6418AB9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ADF-CE05-4522-B630-C3AFF78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893-4CFE-4C04-9605-4FB93175DE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αι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ose demons we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was a servant of this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ησου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 just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κουον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ους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σον σε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α ἐργα ὑμ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9-03-03T19:36:16Z</dcterms:modified>
  <cp:revision>38</cp:revision>
  <dc:subject/>
  <dc:title>Slide 1</dc:title>
</cp:coreProperties>
</file>